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390-4A06-4A26-92BF-788C58F7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3FAA-C3BE-482E-807F-F1E51115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A0E-F88E-4584-A390-ED92C0AC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B03-3156-48C9-A0B8-3175FDD7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CF8-6E22-42A1-8299-0F3FFDFF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BCA-0C1F-44BE-AB65-67013E29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08C-A928-4D59-AFB0-8F176DEB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B15-ACF2-4C7E-B001-487C6732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A43-F749-433C-B07C-E3C25A61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FD1-7CBD-46DF-8945-870654EE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B75-3B2F-46F4-861D-CC3087FE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2D0-815D-4136-B190-1CB8828E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9675-F000-4097-BDD3-0180C075C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e F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ody Urciuoli and Jackie Lato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0864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newsimg.bbc.co.uk/media/images/41725000/jpg/_41725840_xdesk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name was Annelies Marie Fra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June 12, 192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d in concentration camp in 1945 of typ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08640"/>
            <a:ext cx="1676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sweetney.com/.a/6a00e550896a818833011570fd381f970b-800w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 Di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iary entry was on June 12,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entry was on August 1, 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rote the diary from 1942 to 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y was published in 19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published her diary to show what happened during thi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a few novels during thi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308640"/>
            <a:ext cx="1447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foxnews.com/images/272467/0_61_anne_frank_13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sterdam office and ware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d and Mom sister, and four other friends hid with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re arrested by the Nazi’s then moved to Beren-Belsen Concentration camp in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396000">
            <a:off x="7619760" y="3962520"/>
            <a:ext cx="1276200" cy="2552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495000">
            <a:off x="7009920" y="646128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channels.nl/amsterdam/annefran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4876920"/>
            <a:ext cx="2361960" cy="1143000"/>
          </a:xfrm>
          <a:prstGeom prst="rightArrow">
            <a:avLst>
              <a:gd name="adj1" fmla="val 50000"/>
              <a:gd name="adj2" fmla="val 5166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51814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ne Franks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ld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joyed reading and writing when you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d in a mix neighborhood of Jewish and Christian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relationship with her si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t topic to 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few survivors from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 in her dads work place with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Alison Leslie. "Frank, Anne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orld Book Studen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rld Book, 2009. Web. 4 Dec.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Diary of Anne Frank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orld Book Studen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rld Book, 2009. Web. 10 Dec. 2009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47:42Z</dcterms:created>
  <dc:creator>20869</dc:creator>
  <dc:description/>
  <dc:language>en-US</dc:language>
  <cp:lastModifiedBy>20869</cp:lastModifiedBy>
  <dcterms:modified xsi:type="dcterms:W3CDTF">2010-01-19T15:52:47Z</dcterms:modified>
  <cp:revision>15</cp:revision>
  <dc:subject/>
  <dc:title>Anne Frank</dc:title>
</cp:coreProperties>
</file>